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17ABB9-834C-4E32-BD04-6A7FD652D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9E9164-F3F0-4C03-A09E-D10322A4D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5D5422-46E0-41A5-9D2C-07F554366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A63DCB-B242-4AF7-947A-B7108BCA9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54052-41B0-408B-A207-34B4EDD9D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8BA06-A943-4F82-855B-4A15C5F2E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7339C-FB7A-4A5C-9412-2260E9929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E1817-26CC-48E0-9906-2D0C1B1EB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DFD31-68CB-4EE4-94FE-9C308A04D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BD0D6-1AE2-40C9-AADB-D4904EE49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45ED0-71AF-462B-A050-DB2C45A7C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F6752C-F2FE-4D09-A5B0-8D68FCDB1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6E38F-EB86-4C55-908C-17BC9EFC9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CDB16-0605-442D-9155-5A723DBA9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58EA4-67FF-4783-A771-608E562EC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5EA66-37C0-4A45-92F4-002D3F24A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CDC70-1222-4EB5-B86F-C410B43CB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4113F3-7195-48E0-BB52-E3B32704A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75CB10-8B8A-4D5D-BED9-B908A4172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2374B6-0D46-47C8-9FFB-18126D0C8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B4CA47-64AF-4839-BB64-C2E24A856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7657D0-250B-4781-8E0F-C33C466C3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9D5059-81B6-4110-9185-F9C762E62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FF847F-C1A2-4DA4-AB9D-E81D6BEDE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0CB43-ED1D-4BC8-9649-3920A2B9A66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/2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ACB05-D00C-42F6-8C79-4DB90D9E708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600" spc="-1" strike="noStrike">
                <a:solidFill>
                  <a:srgbClr val="ffffff"/>
                </a:solidFill>
                <a:latin typeface="Arial"/>
              </a:rPr>
              <a:t>Fundamentos de Criptografía</a:t>
            </a:r>
            <a:br>
              <a:rPr sz="4600"/>
            </a:br>
            <a:r>
              <a:rPr b="0" lang="es-CL" sz="4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3400" spc="-1" strike="noStrike">
                <a:solidFill>
                  <a:srgbClr val="ffffff"/>
                </a:solidFill>
                <a:latin typeface="Arial"/>
              </a:rPr>
              <a:t>Con </a:t>
            </a:r>
            <a:r>
              <a:rPr b="0" lang="es-CL" sz="3300" spc="-1" strike="noStrike">
                <a:solidFill>
                  <a:srgbClr val="ffffff"/>
                </a:solidFill>
                <a:latin typeface="Arial"/>
              </a:rPr>
              <a:t>Aspectos de Complejidad Computacional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Horacio González L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24 de Octubre de 200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958AF-6F23-463D-9CAC-CAF0A44DE81A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Funciones </a:t>
            </a:r>
            <a:r>
              <a:rPr b="0" i="1" lang="es-CL" sz="4400" spc="-1" strike="noStrike">
                <a:solidFill>
                  <a:srgbClr val="000000"/>
                </a:solidFill>
                <a:latin typeface="Arial"/>
              </a:rPr>
              <a:t>one-w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Definición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: una función </a:t>
            </a:r>
            <a:r>
              <a:rPr b="0" i="1" lang="es-CL" sz="3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: {0,1}* </a:t>
            </a:r>
            <a:r>
              <a:rPr b="0" lang="es-C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 {0,1}* es </a:t>
            </a:r>
            <a:r>
              <a:rPr b="0" i="1" lang="es-CL" sz="3200" spc="-1" strike="noStrike">
                <a:solidFill>
                  <a:srgbClr val="000000"/>
                </a:solidFill>
                <a:latin typeface="Arial"/>
              </a:rPr>
              <a:t>one-way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 s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Dirección fácil: existe un algoritmo eficiente para con una entrada </a:t>
            </a:r>
            <a:r>
              <a:rPr b="0" i="1" lang="es-CL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retornar </a:t>
            </a:r>
            <a:r>
              <a:rPr b="0" i="1" lang="es-CL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s-CL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Dirección difícil: dado </a:t>
            </a:r>
            <a:r>
              <a:rPr b="0" i="1" lang="es-CL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s-CL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), donde </a:t>
            </a:r>
            <a:r>
              <a:rPr b="0" i="1" lang="es-CL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se elige uniformemente, es impracticable encontrar, con una alta probabilidad, una preimagen de </a:t>
            </a:r>
            <a:r>
              <a:rPr b="0" i="1" lang="es-CL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s-CL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Brecha de complejidad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8E4839-57A1-4A9E-83BB-2DE7E7F3FA3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Funciones </a:t>
            </a:r>
            <a:r>
              <a:rPr b="0" i="1" lang="es-CL" sz="4400" spc="-1" strike="noStrike">
                <a:solidFill>
                  <a:srgbClr val="000000"/>
                </a:solidFill>
                <a:latin typeface="Arial"/>
              </a:rPr>
              <a:t>one-w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Funciones no invertibles en sentido computacional, no matemát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Un sistema criptográfico seguro ante ataques de mensaje conocido, puede producir una función </a:t>
            </a:r>
            <a:r>
              <a:rPr b="0" i="1" lang="es-CL" sz="3200" spc="-1" strike="noStrike">
                <a:solidFill>
                  <a:srgbClr val="000000"/>
                </a:solidFill>
                <a:latin typeface="Arial"/>
              </a:rPr>
              <a:t>one-way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83C47D-A7DB-464E-B46C-72F9E3B6479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Funciones </a:t>
            </a:r>
            <a:r>
              <a:rPr b="0" i="1" lang="es-CL" sz="4000" spc="-1" strike="noStrike">
                <a:solidFill>
                  <a:srgbClr val="000000"/>
                </a:solidFill>
                <a:latin typeface="Arial"/>
              </a:rPr>
              <a:t>one-way</a:t>
            </a: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 con </a:t>
            </a:r>
            <a:r>
              <a:rPr b="0" i="1" lang="es-CL" sz="4000" spc="-1" strike="noStrike">
                <a:solidFill>
                  <a:srgbClr val="000000"/>
                </a:solidFill>
                <a:latin typeface="Arial"/>
              </a:rPr>
              <a:t>trapdoo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Un caso especial de funciones </a:t>
            </a:r>
            <a:r>
              <a:rPr b="0" i="1" lang="es-CL" sz="3200" spc="-1" strike="noStrike">
                <a:solidFill>
                  <a:srgbClr val="000000"/>
                </a:solidFill>
                <a:latin typeface="Arial"/>
              </a:rPr>
              <a:t>one-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Una función </a:t>
            </a:r>
            <a:r>
              <a:rPr b="0" i="1" lang="es-CL" sz="3200" spc="-1" strike="noStrike">
                <a:solidFill>
                  <a:srgbClr val="000000"/>
                </a:solidFill>
                <a:latin typeface="Arial"/>
              </a:rPr>
              <a:t>one-way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 se dice con </a:t>
            </a:r>
            <a:r>
              <a:rPr b="0" i="1" lang="es-CL" sz="3200" spc="-1" strike="noStrike">
                <a:solidFill>
                  <a:srgbClr val="000000"/>
                </a:solidFill>
                <a:latin typeface="Arial"/>
              </a:rPr>
              <a:t>trapdoor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 (“escotilla”), si conociendo el secreto </a:t>
            </a:r>
            <a:r>
              <a:rPr b="0" i="1" lang="es-CL" sz="32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–la escotilla, la función es “fácil” en las dos direcciones. Es decir, es fácil obtener </a:t>
            </a:r>
            <a:r>
              <a:rPr b="0" i="1" lang="es-CL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 de </a:t>
            </a:r>
            <a:r>
              <a:rPr b="0" i="1" lang="es-CL" sz="3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s-CL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s-CL" sz="32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CL" sz="3200" spc="-1" strike="noStrike">
                <a:solidFill>
                  <a:srgbClr val="000000"/>
                </a:solidFill>
                <a:latin typeface="Arial"/>
              </a:rPr>
              <a:t>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763294-749F-43CD-A3A7-16F52BE31EC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Funciones </a:t>
            </a:r>
            <a:r>
              <a:rPr b="0" i="1" lang="es-CL" sz="4000" spc="-1" strike="noStrike">
                <a:solidFill>
                  <a:srgbClr val="000000"/>
                </a:solidFill>
                <a:latin typeface="Arial"/>
              </a:rPr>
              <a:t>one-way</a:t>
            </a: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 con </a:t>
            </a:r>
            <a:r>
              <a:rPr b="0" i="1" lang="es-CL" sz="4000" spc="-1" strike="noStrike">
                <a:solidFill>
                  <a:srgbClr val="000000"/>
                </a:solidFill>
                <a:latin typeface="Arial"/>
              </a:rPr>
              <a:t>trapdoo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Una función </a:t>
            </a:r>
            <a:r>
              <a:rPr b="0" i="1" lang="es-CL" sz="3200" spc="-1" strike="noStrike">
                <a:solidFill>
                  <a:srgbClr val="000000"/>
                </a:solidFill>
                <a:latin typeface="Arial"/>
              </a:rPr>
              <a:t>one-way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 con </a:t>
            </a:r>
            <a:r>
              <a:rPr b="0" i="1" lang="es-CL" sz="3200" spc="-1" strike="noStrike">
                <a:solidFill>
                  <a:srgbClr val="000000"/>
                </a:solidFill>
                <a:latin typeface="Arial"/>
              </a:rPr>
              <a:t>trapdoor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 se puede usar para producir un sistema criptográfico de llave pública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7EC674-FD0B-4D40-B003-5C62886E754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Pseudo aleatoried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Quienquiera que considere métodos ariméticos para producir digitos aleatorios está, por supuesto, cometiendo un pecado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John von Newman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F26444-2620-4077-A475-D6BF61AE11F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Secuencia pseudo aleator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Definición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: una secuencia de bits es pseudo aleatoria si es </a:t>
            </a:r>
            <a:r>
              <a:rPr b="0" i="1" lang="es-CL" sz="3200" spc="-1" strike="noStrike">
                <a:solidFill>
                  <a:srgbClr val="000000"/>
                </a:solidFill>
                <a:latin typeface="Arial"/>
              </a:rPr>
              <a:t>computacionalmente indistinguible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 de una secuencia de bits de distribución unifor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8FABEB-1A16-40DA-8535-D4E9E354848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Generador pseudo aleator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Definición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: sea </a:t>
            </a:r>
            <a:r>
              <a:rPr b="0" i="1" lang="es-CL" sz="32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s-CL" sz="3200" spc="-1" strike="noStrike">
                <a:solidFill>
                  <a:srgbClr val="000000"/>
                </a:solidFill>
                <a:latin typeface="Symbol"/>
                <a:ea typeface="Symbol"/>
              </a:rPr>
              <a:t></a:t>
            </a:r>
            <a:r>
              <a:rPr b="0" lang="es-C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3200" spc="-1" strike="noStrike">
                <a:solidFill>
                  <a:srgbClr val="000000"/>
                </a:solidFill>
                <a:latin typeface="Symbol"/>
                <a:ea typeface="Symbol"/>
              </a:rPr>
              <a:t>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 tal que </a:t>
            </a:r>
            <a:r>
              <a:rPr b="0" i="1" lang="es-CL" sz="32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s-CL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) &gt; </a:t>
            </a:r>
            <a:r>
              <a:rPr b="0" i="1" lang="es-CL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s-CL" sz="32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i="1" lang="es-CL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. Un </a:t>
            </a:r>
            <a:r>
              <a:rPr b="0" i="1" lang="es-CL" sz="3200" spc="-1" strike="noStrike">
                <a:solidFill>
                  <a:srgbClr val="000000"/>
                </a:solidFill>
                <a:latin typeface="Arial"/>
              </a:rPr>
              <a:t>generador pseudo aleatorio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, con </a:t>
            </a:r>
            <a:r>
              <a:rPr b="0" i="1" lang="es-CL" sz="3200" spc="-1" strike="noStrike">
                <a:solidFill>
                  <a:srgbClr val="000000"/>
                </a:solidFill>
                <a:latin typeface="Arial"/>
              </a:rPr>
              <a:t>función de estiramiento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CL" sz="32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, es un algoritmo eficiente (determinístico) el cual con una </a:t>
            </a:r>
            <a:r>
              <a:rPr b="0" i="1" lang="es-CL" sz="3200" spc="-1" strike="noStrike">
                <a:solidFill>
                  <a:srgbClr val="000000"/>
                </a:solidFill>
                <a:latin typeface="Arial"/>
              </a:rPr>
              <a:t>semilla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 aleatoria de n-bits de entrada retorna una secuencia pseudo aleatoria de </a:t>
            </a:r>
            <a:r>
              <a:rPr b="0" i="1" lang="es-CL" sz="32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s-CL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)-b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DC7476-64AE-4E7C-B2C0-651E65885F1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Generador pseudo aleatorio:</a:t>
            </a:r>
            <a:br>
              <a:rPr sz="4000"/>
            </a:b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predicado </a:t>
            </a:r>
            <a:r>
              <a:rPr b="0" i="1" lang="es-CL" sz="4000" spc="-1" strike="noStrike">
                <a:solidFill>
                  <a:srgbClr val="000000"/>
                </a:solidFill>
                <a:latin typeface="Arial"/>
              </a:rPr>
              <a:t>hard-co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Definición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: El predicado </a:t>
            </a:r>
            <a:r>
              <a:rPr b="0" i="1" lang="es-CL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 es un </a:t>
            </a:r>
            <a:r>
              <a:rPr b="0" i="1" lang="es-CL" sz="3200" spc="-1" strike="noStrike">
                <a:solidFill>
                  <a:srgbClr val="000000"/>
                </a:solidFill>
                <a:latin typeface="Arial"/>
              </a:rPr>
              <a:t>hard-core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 de la función </a:t>
            </a:r>
            <a:r>
              <a:rPr b="0" i="1" lang="es-CL" sz="3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 si </a:t>
            </a:r>
            <a:r>
              <a:rPr b="0" i="1" lang="es-CL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 es fácil de evaluar pero </a:t>
            </a:r>
            <a:r>
              <a:rPr b="0" i="1" lang="es-CL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s-CL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) es difícil de predecir desde </a:t>
            </a:r>
            <a:r>
              <a:rPr b="0" i="1" lang="es-CL" sz="3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s-CL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s decir, es impracticable, dado </a:t>
            </a:r>
            <a:r>
              <a:rPr b="0" i="1" lang="es-CL" sz="3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s-CL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), predecir mejor </a:t>
            </a:r>
            <a:r>
              <a:rPr b="0" i="1" lang="es-CL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s-CL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) que con probabilidad 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 “hereda concentradamente” la dificultad de invertir </a:t>
            </a:r>
            <a:r>
              <a:rPr b="0" i="1" lang="es-CL" sz="3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F97ED9-37AE-4890-B14D-AD74440A8F8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Generador pseudo aleatorio:</a:t>
            </a:r>
            <a:br>
              <a:rPr sz="4000"/>
            </a:b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el paradigma de la iter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Sea </a:t>
            </a:r>
            <a:r>
              <a:rPr b="0" i="1" lang="es-CL" sz="28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una función 1-1 que preserva el largo y es eficientemente computable, y </a:t>
            </a:r>
            <a:r>
              <a:rPr b="0" i="1" lang="es-CL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un predicado </a:t>
            </a:r>
            <a:r>
              <a:rPr b="0" i="1" lang="es-CL" sz="2800" spc="-1" strike="noStrike">
                <a:solidFill>
                  <a:srgbClr val="000000"/>
                </a:solidFill>
                <a:latin typeface="Arial"/>
              </a:rPr>
              <a:t>hard-core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de </a:t>
            </a:r>
            <a:r>
              <a:rPr b="0" i="1" lang="es-CL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. Ento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s un generador pseudo aleatorio (con función de estiramiento    ), don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2209680" y="3352680"/>
                <a:ext cx="3810240" cy="43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b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b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⋅</m:t>
                    </m:r>
                    <m:r>
                      <m:t xml:space="preserve">b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ℓ</m:t>
                        </m:r>
                        <m:r>
                          <m:t xml:space="preserve">(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s</m:t>
                            </m:r>
                          </m:e>
                        </m:d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4572000" y="4267080"/>
                <a:ext cx="3729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ℓ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2590920" y="4962600"/>
                <a:ext cx="335268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i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limUpp>
                      <m:e>
                        <m:r>
                          <m:t xml:space="preserve">=</m:t>
                        </m:r>
                      </m:e>
                      <m:lim>
                        <m:r>
                          <m:rPr>
                            <m:lit/>
                            <m:nor/>
                          </m:rPr>
                          <m:t xml:space="preserve">def</m:t>
                        </m:r>
                      </m:lim>
                    </m:limUpp>
                    <m:r>
                      <m:t xml:space="preserve">f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i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)</m:t>
                    </m:r>
                    <m:r>
                      <m:t xml:space="preserve">,</m:t>
                    </m:r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limUpp>
                      <m:e>
                        <m:r>
                          <m:t xml:space="preserve">=</m:t>
                        </m:r>
                      </m:e>
                      <m:lim>
                        <m:r>
                          <m:rPr>
                            <m:lit/>
                            <m:nor/>
                          </m:rPr>
                          <m:t xml:space="preserve">def</m:t>
                        </m:r>
                      </m:lim>
                    </m:limUpp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319F1D-82B4-40E7-A2E3-E1B75031BCF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Generador pseudo aleator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Resultado de credibilidad aparente: los generadores pseudo aleatorios existen ssi existen las funciones </a:t>
            </a:r>
            <a:r>
              <a:rPr b="0" i="1" lang="es-CL" sz="3200" spc="-1" strike="noStrike">
                <a:solidFill>
                  <a:srgbClr val="000000"/>
                </a:solidFill>
                <a:latin typeface="Arial"/>
              </a:rPr>
              <a:t>one-way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Problema abierto, permitiría crear generadores pseudo aleatorios desde </a:t>
            </a:r>
            <a:r>
              <a:rPr b="0" i="1" lang="es-CL" sz="3200" spc="-1" strike="noStrike">
                <a:solidFill>
                  <a:srgbClr val="000000"/>
                </a:solidFill>
                <a:latin typeface="Arial"/>
              </a:rPr>
              <a:t>cualquier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 función </a:t>
            </a:r>
            <a:r>
              <a:rPr b="0" i="1" lang="es-CL" sz="3200" spc="-1" strike="noStrike">
                <a:solidFill>
                  <a:srgbClr val="000000"/>
                </a:solidFill>
                <a:latin typeface="Arial"/>
              </a:rPr>
              <a:t>one-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349094-3D7B-4A47-AF2F-36AF51BAEBC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Terminologí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120" y="1981080"/>
            <a:ext cx="8077320" cy="274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Arial"/>
              </a:rPr>
              <a:t>Sender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(Remitente)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Arial"/>
              </a:rPr>
              <a:t>Receiver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(Receptor) 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Arial"/>
              </a:rPr>
              <a:t>Plaintext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(mensaje) P ó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Arial"/>
              </a:rPr>
              <a:t>Ciphertext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(texto cifrado)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Arial"/>
              </a:rPr>
              <a:t>Encryption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(cifrado) E(M)=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Arial"/>
              </a:rPr>
              <a:t>Decryption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(decodificación o descifrado) D(C)=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38080" y="5410080"/>
            <a:ext cx="7239240" cy="457200"/>
            <a:chOff x="838080" y="5410080"/>
            <a:chExt cx="7239240" cy="457200"/>
          </a:xfrm>
        </p:grpSpPr>
        <p:sp>
          <p:nvSpPr>
            <p:cNvPr id="111" name=""/>
            <p:cNvSpPr/>
            <p:nvPr/>
          </p:nvSpPr>
          <p:spPr>
            <a:xfrm>
              <a:off x="2209680" y="5410080"/>
              <a:ext cx="1447920" cy="45720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Cifrad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257800" y="5410080"/>
              <a:ext cx="1447920" cy="45720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Descifrad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38080" y="5638680"/>
              <a:ext cx="137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7600" y="563868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705720" y="5638680"/>
              <a:ext cx="137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825120" y="5294160"/>
            <a:ext cx="104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Mensa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720240" y="5294160"/>
            <a:ext cx="150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exto cifr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768720" y="5294160"/>
            <a:ext cx="104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Mensa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04920" y="5410080"/>
            <a:ext cx="533160" cy="533520"/>
          </a:xfrm>
          <a:prstGeom prst="ellipse">
            <a:avLst/>
          </a:prstGeom>
          <a:solidFill>
            <a:srgbClr val="9999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077320" y="5334120"/>
            <a:ext cx="533160" cy="533160"/>
          </a:xfrm>
          <a:prstGeom prst="ellipse">
            <a:avLst/>
          </a:prstGeom>
          <a:solidFill>
            <a:srgbClr val="9999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18800" y="5979960"/>
            <a:ext cx="15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) =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B7C7B9-2643-4482-99C3-FF25E04C2E85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Cero-conocimiento (</a:t>
            </a:r>
            <a:r>
              <a:rPr b="0" i="1" lang="es-CL" sz="4000" spc="-1" strike="noStrike">
                <a:solidFill>
                  <a:srgbClr val="000000"/>
                </a:solidFill>
                <a:latin typeface="Arial"/>
              </a:rPr>
              <a:t>zero-knowledge</a:t>
            </a: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Idea: mediante un proceso interactivo y aleatorio, demostrar que se tiene cierto conocimiento sin entregar ninguna parte de ese conocimien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Protocolo repetitivo entre 2 partes: un verificador y un demostrador. La demostración debe permitir al demostrador convencer al verificador de cualquier hecho verídico, mientras que ninguna estrategia que tome le permitirá engañarlo a aceptar hechos fals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095303-BE71-4D9B-92F7-1B26D7F81FA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Cero-conocimien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Resultado general de credibilidad aparente: hay demostraciones de cero-conocimiento y eficientes para la pertenencia en cualquier lenguaje N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=&gt; Herramienta poderosa para diseñar esquemas y protocolos criptográfic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DCFD7A-EF23-43D9-AC8A-9EE98627229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Clases de complejid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La dificultad criptoanalítica de un sistema cuyas operaciones de cifrado y descifrado están en P no puede ser mayor que NP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No todos los problemas en NP sirven para propósitos criptográficos. Peor caso v/s caso esperado o promedi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l problema criptoanalítico general es NP-comple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03C3D0-39FA-4C74-82F9-65E21EBAD42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Ejemplos: funciones one-way útiles en criptografí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Factorizac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Multiplicar números 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Factorizarlos N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Mejor algoritmo que se conoce (GNF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po. Ejecución heurístico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(1.923+ 0(1))(ln (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))(1/3)(ln (ln (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)))(2/3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Logaritmos discretos en campos fini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xponenciación en módulo 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Método de Montgom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roblema inverso (logaritmo discreto) N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omplejidad equivalente a calcular factores prim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3A86C4-025A-4F7A-8E17-45FDD38F4F2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Ejemplos: generador pseudo aleatori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Basado en exponenciación modul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609480" y="3352680"/>
                <a:ext cx="8077320" cy="195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mod</m:t>
                        </m:r>
                        <m:r>
                          <m:t xml:space="preserve">N</m:t>
                        </m:r>
                        <m:r>
                          <m:t xml:space="preserve">;</m:t>
                        </m:r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p</m:t>
                        </m:r>
                        <m:r>
                          <m:t xml:space="preserve">⋅</m:t>
                        </m:r>
                        <m:r>
                          <m:t xml:space="preserve">q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primos</m:t>
                        </m:r>
                        <m:r>
                          <m:t xml:space="preserve">≡</m:t>
                        </m:r>
                        <m:r>
                          <m:t xml:space="preserve">3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mod</m:t>
                        </m:r>
                        <m:r>
                          <m:t xml:space="preserve">4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b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lsb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lsb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lsb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mod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lsb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ℓ</m:t>
                                </m:r>
                                <m:r>
                                  <m:t xml:space="preserve">(</m:t>
                                </m:r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r>
                                      <m:t xml:space="preserve">s</m:t>
                                    </m:r>
                                  </m:e>
                                </m:d>
                                <m:r>
                                  <m:t xml:space="preserve">)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mod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86214C-3894-41DA-B6E2-2325901D827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Ejemplos: demostración de cero-conocimien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Clave privada </a:t>
            </a:r>
            <a:r>
              <a:rPr b="0" i="1" lang="es-CL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{1,…,</a:t>
            </a:r>
            <a:r>
              <a:rPr b="0" i="1" lang="es-CL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} (</a:t>
            </a:r>
            <a:r>
              <a:rPr b="0" i="1" lang="es-CL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producto de 2 primos secreto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Clave pública </a:t>
            </a:r>
            <a:r>
              <a:rPr b="0" i="1" lang="es-CL" sz="2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s-CL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s-CL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s-CL" sz="2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Protocolo de identificació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Demostrador elige aleatoriamente </a:t>
            </a:r>
            <a:r>
              <a:rPr b="0" i="1" lang="es-CL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{1,…,</a:t>
            </a:r>
            <a:r>
              <a:rPr b="0" i="1" lang="es-CL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} y envía </a:t>
            </a:r>
            <a:r>
              <a:rPr b="0" i="1" lang="es-CL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s-CL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s-CL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s-CL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al verificad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Verificador elige aleatoriamente una prueba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{0,1}, y la envía al demostrad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Demostrador responde con </a:t>
            </a:r>
            <a:r>
              <a:rPr b="0" i="1" lang="es-CL" sz="2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s-CL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s-CL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s-CL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Verificador acepta ssi </a:t>
            </a:r>
            <a:r>
              <a:rPr b="0" i="1" lang="es-CL" sz="2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s-CL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s-CL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y</a:t>
            </a:r>
            <a:r>
              <a:rPr b="0" lang="es-CL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(mod </a:t>
            </a:r>
            <a:r>
              <a:rPr b="0" i="1" lang="es-CL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8ABF0D-1828-482F-930F-22CEB443E9A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Ejemplos: RS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q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gir aleatoriamente e tal que e y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1)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1) sean primos relativo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(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1)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1)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4832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47 y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7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q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3337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1)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1) = 46 * 70 = 322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= 79 aleato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79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3220 = 1019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688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88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79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3337 = 1570 =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57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1019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3337 = 688 =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52280" y="6074280"/>
            <a:ext cx="8839440" cy="51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1)(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1)+1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k(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1)(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1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1 =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; (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53DBE3-92D9-4716-B240-31EE73B8A057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Definición de criptografí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studio de sistemas matemáticos que involucra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Privac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Autentific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Integr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Irrefutabilidad (</a:t>
            </a:r>
            <a:r>
              <a:rPr b="0" i="1" lang="es-CL" sz="2800" spc="-1" strike="noStrike">
                <a:solidFill>
                  <a:srgbClr val="000000"/>
                </a:solidFill>
                <a:latin typeface="Arial"/>
              </a:rPr>
              <a:t>nonrepudiation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l problem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Comunicación segura a través de canales inseguro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370865-7AB4-475B-9B6C-6BD755AA9771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Más terminologí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Algoritmo criptográfico (</a:t>
            </a:r>
            <a:r>
              <a:rPr b="0" i="1" lang="es-CL" sz="2800" spc="-1" strike="noStrike">
                <a:solidFill>
                  <a:srgbClr val="000000"/>
                </a:solidFill>
                <a:latin typeface="Arial"/>
              </a:rPr>
              <a:t>cipher, cryptosystem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Clave o llave K (Key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spacio de llaves </a:t>
            </a:r>
            <a:r>
              <a:rPr b="0" lang="es-C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{E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(m)}, {D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(c)} familias de </a:t>
            </a:r>
            <a:r>
              <a:rPr b="0" i="1" lang="es-CL" sz="2800" spc="-1" strike="noStrike">
                <a:solidFill>
                  <a:srgbClr val="000000"/>
                </a:solidFill>
                <a:latin typeface="Arial"/>
              </a:rPr>
              <a:t>ciph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Algoritmos simétr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Algoritmos de clave públ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492D58-5F21-417F-8CCE-1140EAAADE38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Más terminología aú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Criptoanálisis (</a:t>
            </a:r>
            <a:r>
              <a:rPr b="0" i="1" lang="es-CL" sz="2800" spc="-1" strike="noStrike">
                <a:solidFill>
                  <a:srgbClr val="000000"/>
                </a:solidFill>
                <a:latin typeface="Arial"/>
              </a:rPr>
              <a:t>cryptanalysis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Ataqu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Arial"/>
              </a:rPr>
              <a:t>Ciphertext o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ado: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,...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i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= E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educir: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...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 o un algoritmo para inferir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+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esd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+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+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Arial"/>
              </a:rPr>
              <a:t>Known plain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ado</a:t>
            </a:r>
            <a:r>
              <a:rPr b="0" i="1" lang="es-CL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, C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= E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), P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, C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= E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),...P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, C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= E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educir</a:t>
            </a:r>
            <a:r>
              <a:rPr b="0" i="1" lang="es-CL" sz="2000" spc="-1" strike="noStrike">
                <a:solidFill>
                  <a:srgbClr val="000000"/>
                </a:solidFill>
                <a:latin typeface="Arial"/>
              </a:rPr>
              <a:t>: k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 un algoritmo para inferir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+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esd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+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+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Arial"/>
              </a:rPr>
              <a:t>Chosen plain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ado</a:t>
            </a:r>
            <a:r>
              <a:rPr b="0" i="1" lang="es-CL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, C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= E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), P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, C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= E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),...P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, C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= E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nde el criptoanalista puede elejir los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, P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,...P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educir: </a:t>
            </a:r>
            <a:r>
              <a:rPr b="0" i="1" lang="es-CL" sz="2000" spc="-1" strike="noStrike">
                <a:solidFill>
                  <a:srgbClr val="000000"/>
                </a:solidFill>
                <a:latin typeface="Arial"/>
              </a:rPr>
              <a:t>k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 un algoritmo para inferir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+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esd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+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+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1CBF55-76AE-4663-AC78-D88B90FDE401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Niveles de seguridad de los </a:t>
            </a:r>
            <a:r>
              <a:rPr b="0" i="1" lang="es-CL" sz="4000" spc="-1" strike="noStrike">
                <a:solidFill>
                  <a:srgbClr val="000000"/>
                </a:solidFill>
                <a:latin typeface="Arial"/>
              </a:rPr>
              <a:t>cip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Incondicionalmente segur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One time p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Computacionalmente segur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Computacionalemente impracticable (</a:t>
            </a:r>
            <a:r>
              <a:rPr b="0" i="1" lang="es-CL" sz="2800" spc="-1" strike="noStrike">
                <a:solidFill>
                  <a:srgbClr val="000000"/>
                </a:solidFill>
                <a:latin typeface="Arial"/>
              </a:rPr>
              <a:t>infeasible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Tiemp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spac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6FFD3E-32F2-4A8B-A4F4-1A5ED5BD0BCC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Algoritmos simétric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Criptografía convencional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La seguridad depende de la ll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=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=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Problemas inherentes al manejo de llaves secret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0C80DC-4812-4ACF-BA19-57329B3F7F1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Algoritmos de llave públ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Claves distintas para cifrar y descifra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s computacionalmente impracticable determinar la llave privada con la públic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Kpú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=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Kpr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=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556BB0-5469-428E-A69B-15E35305701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Herramientas básic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Funciones “</a:t>
            </a:r>
            <a:r>
              <a:rPr b="0" i="1" lang="es-CL" sz="3200" spc="-1" strike="noStrike">
                <a:solidFill>
                  <a:srgbClr val="000000"/>
                </a:solidFill>
                <a:latin typeface="Arial"/>
              </a:rPr>
              <a:t>One-Way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” (de un sentid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Pseudo aleatorie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Demostraciones de cero-conocimi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AB590E-0E2E-4424-801A-1D9EAE68B50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3T20:07:07Z</dcterms:created>
  <dc:creator>Horacio González L.</dc:creator>
  <dc:description/>
  <dc:language>en-US</dc:language>
  <cp:lastModifiedBy>Horacio González L.</cp:lastModifiedBy>
  <dcterms:modified xsi:type="dcterms:W3CDTF">2002-10-24T15:31:33Z</dcterms:modified>
  <cp:revision>16</cp:revision>
  <dc:subject/>
  <dc:title>Fundamentos de Criptografía  Aspectos de Complejidad Computacional</dc:title>
</cp:coreProperties>
</file>